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8.png" ContentType="image/png"/>
  <Override PartName="/ppt/media/image16.png" ContentType="image/png"/>
  <Override PartName="/ppt/media/image27.png" ContentType="image/png"/>
  <Override PartName="/ppt/media/image14.wmf" ContentType="image/x-wmf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EDC-A949-43B5-A4F5-D31C2CCB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ADB-99C8-422B-AE4E-92855EBE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B6F-7CCB-45C9-A5D8-6203A057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0E0-FB2C-4F11-8FFB-0D3D4D32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C1C-E87A-47D7-B519-2F3FD106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CF4-F9E3-480A-9FE8-E5EA62ED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8FB-1090-4252-A8CC-F33A2833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AF5-A3C1-4B61-905B-1970F21F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BEC-A254-4B7B-9EC1-846FC895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C89-F090-4526-93F3-77FF040C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9E7-0FEF-45A4-B22B-E40AECFB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11B-45BE-42DB-BD59-B578A95F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2C30-A2E7-45F3-AF74-F78F8DDBB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g&#233;sz%20kocka.elr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981000"/>
            <a:ext cx="4859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ány valós megoldása van az egyenletne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219640" y="836640"/>
          <a:ext cx="287964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836640"/>
                    <a:ext cx="287964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859280" y="26028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és kötelessé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260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 kételkedés jo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76640"/>
            <a:ext cx="51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Egy „grafikus” megoldá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Vegyük észre, hogy az egyenlet két oldalát leíró függvények egymás inverz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Mivel a két függvény monoton, csak az  y = x egyenes mentén metszhetik egymást,  elegendő megoldanunk az alábbi egyenlet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35280" y="4076640"/>
          <a:ext cx="144144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076640"/>
                    <a:ext cx="14414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760" y="5373720"/>
            <a:ext cx="73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nnek a –számítógéppel kapott – közelítő gyöke: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≈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0.36424988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55736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z egyenletnek egy valós gyök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71640" y="5746680"/>
          <a:ext cx="2982960" cy="11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5746680"/>
                    <a:ext cx="298296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292720" y="5780160"/>
          <a:ext cx="2892600" cy="10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5780160"/>
                    <a:ext cx="28926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3141720"/>
            <a:ext cx="50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8464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Belátható, hogy az                                 egyenletnek akkor  van három megoldása, h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124000" y="3141720"/>
          <a:ext cx="1656000" cy="509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3141720"/>
                    <a:ext cx="165600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7640" y="4076640"/>
          <a:ext cx="2376720" cy="66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47640" y="4076640"/>
                    <a:ext cx="23767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13"/>
          <a:stretch/>
        </p:blipFill>
        <p:spPr>
          <a:xfrm>
            <a:off x="5651640" y="2013120"/>
            <a:ext cx="3168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64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Képezzünk egy  (konkáv) poliédert  2*10 db szabályos ötszögbő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4044960" cy="26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00720" y="620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gaz-e, hogy ez a poliéder mozgathat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372360" y="981000"/>
            <a:ext cx="2489040" cy="266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2997360"/>
            <a:ext cx="40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zt kellene vizsgálnunk, hogy az alábbi függvénynek van-e olyan intervalluma, amely megegyezik az inverzé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5280" y="4292640"/>
          <a:ext cx="446400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292640"/>
                    <a:ext cx="44640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292720" y="3438360"/>
            <a:ext cx="3419640" cy="3419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292720" y="3398760"/>
            <a:ext cx="3459240" cy="3459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71640" y="57340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 poliéder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nem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mozgathat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 van három stabil állap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Képezzünk az ikozaéder csúcsaival megegyező csúcsokkal megadott konkáv poliéder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62400" y="0"/>
            <a:ext cx="3981600" cy="4162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22000" y="1096920"/>
            <a:ext cx="27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Mozgatható-e ez a polié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484280"/>
            <a:ext cx="468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Belátható, hogy a poliéder akkor mozogna – meghatározható határok között – ha az alábbi függvény egy adott intervallumon mindenütt 0 értéket venne f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26920" y="2565360"/>
          <a:ext cx="345780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565360"/>
                    <a:ext cx="34578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429000"/>
            <a:ext cx="56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Ez nem teljesül: a függvény két helyen metszi az x tengely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58920" y="3789360"/>
          <a:ext cx="1584360" cy="892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8920" y="3789360"/>
                    <a:ext cx="15843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0" y="4869000"/>
            <a:ext cx="9144000" cy="198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708360" y="4005360"/>
          <a:ext cx="93672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005360"/>
                    <a:ext cx="9367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976320" y="4797360"/>
            <a:ext cx="60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Az eltérés e két érték közötti intervallumon  kevesebb, mint 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0,0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4751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Van-e igazolhatóan mozgatható polié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765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Cauchy tétele: </a:t>
            </a:r>
            <a:r>
              <a:rPr b="0" lang="hu-HU" sz="1800" spc="-1" strike="noStrike">
                <a:solidFill>
                  <a:srgbClr val="800000"/>
                </a:solidFill>
                <a:latin typeface="Arial"/>
              </a:rPr>
              <a:t> „</a:t>
            </a:r>
            <a:r>
              <a:rPr b="0" i="1" lang="hu-HU" sz="1800" spc="-1" strike="noStrike">
                <a:solidFill>
                  <a:srgbClr val="800000"/>
                </a:solidFill>
                <a:latin typeface="Arial"/>
              </a:rPr>
              <a:t>Ha két </a:t>
            </a:r>
            <a:r>
              <a:rPr b="0" i="1" lang="hu-HU" sz="1800" spc="-1" strike="noStrike" u="sng">
                <a:solidFill>
                  <a:srgbClr val="800000"/>
                </a:solidFill>
                <a:uFillTx/>
                <a:latin typeface="Arial"/>
              </a:rPr>
              <a:t>konvex </a:t>
            </a:r>
            <a:r>
              <a:rPr b="0" i="1" lang="hu-HU" sz="1800" spc="-1" strike="noStrike">
                <a:solidFill>
                  <a:srgbClr val="800000"/>
                </a:solidFill>
                <a:latin typeface="Arial"/>
              </a:rPr>
              <a:t>poliéder felépítése azonos és megfelelő lapjaik egybevágók, akkor vagy orientációtartóan, vagy tükrösen egybevágók (valamely síkra vonatkozóan).</a:t>
            </a:r>
            <a:r>
              <a:rPr b="0" lang="hu-H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00280"/>
            <a:ext cx="83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Klaus Steff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800000"/>
                </a:solidFill>
                <a:latin typeface="Arial"/>
              </a:rPr>
              <a:t>talált egy 9 csúcsú, 14 lapú és 21 élű konkáv poliédert, amely igazohatóan mozgathat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 Csirmaz László cikke: KÖMAL (1979.)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1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9-12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87700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Belátható, hogy a 9-nél kevesebb csúcsú poliéderek nem mozgatható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335448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800000"/>
                </a:solidFill>
                <a:latin typeface="Arial"/>
              </a:rPr>
              <a:t>A spidron-rendszer</a:t>
            </a:r>
            <a:br>
              <a:rPr sz="4000"/>
            </a:b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(Erdély Dániel képzőművész konstrukciój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5360" y="1023840"/>
            <a:ext cx="4797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Tekintsünk egy szabályos hatszög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Húzzuk be az átló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Ezt ismételjük meg a kapott belső</a:t>
            </a:r>
            <a:br>
              <a:rPr sz="1600"/>
            </a:b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 sokszöggel </a:t>
            </a:r>
            <a:r>
              <a:rPr b="0" lang="hu-HU" sz="1600" spc="-1" strike="noStrike" u="sng">
                <a:solidFill>
                  <a:srgbClr val="800000"/>
                </a:solidFill>
                <a:uFillTx/>
                <a:latin typeface="Arial"/>
              </a:rPr>
              <a:t>végtelen soksz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Színezzük ki a kapott alakzatot</a:t>
            </a:r>
            <a:br>
              <a:rPr sz="1600"/>
            </a:b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 (Ezzel egy </a:t>
            </a:r>
            <a:r>
              <a:rPr b="0" lang="hu-HU" sz="1600" spc="-1" strike="noStrike" u="sng">
                <a:solidFill>
                  <a:srgbClr val="ff3300"/>
                </a:solidFill>
                <a:uFillTx/>
                <a:latin typeface="Arial"/>
              </a:rPr>
              <a:t>spidron-fészek</a:t>
            </a: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hez jutottunk,</a:t>
            </a:r>
            <a:br>
              <a:rPr sz="1600"/>
            </a:b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 amelyet hat </a:t>
            </a:r>
            <a:r>
              <a:rPr b="0" lang="hu-HU" sz="1600" spc="-1" strike="noStrike" u="sng">
                <a:solidFill>
                  <a:srgbClr val="ff3300"/>
                </a:solidFill>
                <a:uFillTx/>
                <a:latin typeface="Arial"/>
              </a:rPr>
              <a:t>spidron-kar</a:t>
            </a: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t alko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A lapok határai mentén megtörve </a:t>
            </a:r>
            <a:br>
              <a:rPr sz="1600"/>
            </a:b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hu-HU" sz="1600" spc="-1" strike="noStrike">
                <a:solidFill>
                  <a:srgbClr val="ff3300"/>
                </a:solidFill>
                <a:latin typeface="Arial"/>
              </a:rPr>
              <a:t>deformáljuk térbeli alakzattá a spidron-fészk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0" y="3429000"/>
            <a:ext cx="53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0000"/>
                </a:solidFill>
                <a:latin typeface="Arial"/>
              </a:rPr>
              <a:t>Mozgatható geometriai alkazat-e a spidron-fésze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580000" y="1268280"/>
            <a:ext cx="3311640" cy="2840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3311640" cy="2843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580000" y="1268280"/>
            <a:ext cx="3313080" cy="284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580000" y="1268280"/>
            <a:ext cx="3311640" cy="284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580000" y="1268280"/>
            <a:ext cx="3311640" cy="2882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5580000" y="4149720"/>
            <a:ext cx="3311640" cy="254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6200" y="3952800"/>
            <a:ext cx="498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0000"/>
                </a:solidFill>
                <a:latin typeface="Arial"/>
              </a:rPr>
              <a:t>A spidron-fészek (szabályos hatszöglapból előállított térgeometriai alakzat) akkor mozgatható,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0000"/>
                </a:solidFill>
                <a:latin typeface="Arial"/>
              </a:rPr>
              <a:t>végtelen sok részre osztottuk a sokszög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0000"/>
                </a:solidFill>
                <a:latin typeface="Arial"/>
              </a:rPr>
              <a:t>vagy a fészek közepén marad egy hatszög   alakú ”lyuk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734080"/>
            <a:ext cx="65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0000"/>
                </a:solidFill>
                <a:latin typeface="Arial"/>
              </a:rPr>
              <a:t>Ha véges sok hatszöget illesztünk egymásba, és a legbelsőt beragasztjuk egy (térbeli,torz) szabályos hatszöggel, akkor az alakzat nem mozgathat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3313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éhány alkalmazá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Parkettázzuk ki a síkot szabályos hatszögekkel, ezekből készítsünk mozgatható spidronfészkeket. Ezzel a sík egy „zsugorításához” jutu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Vágjunk két egybevágó részre egy kockát egy (térbeli) spidronfészekkel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800000"/>
                </a:solidFill>
                <a:latin typeface="Arial"/>
              </a:rPr>
              <a:t>Nyolc ilyen fél-kockából előállítható egy spidronfészkekkel határolt  térkitöltő geometriai alakz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5589720"/>
            <a:ext cx="324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Keressünk egy jó mecéná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2736720" cy="246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2735280" cy="2263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227640" y="2421000"/>
            <a:ext cx="27464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012000" cy="4614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564000" y="573408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„</a:t>
            </a: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A matematika a legszebb tudomány, m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nem csak azt nem tudjuk, hogy mivel foglalkozunk, hanem azt sem, hogy miér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57340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0000"/>
                </a:solidFill>
                <a:latin typeface="Arial"/>
              </a:rPr>
              <a:t>Bertrand Russe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494172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„ …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az a szép a matematikában, hogy magán viseli az emberi alkotás minden bizonytalanságát.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6160" y="5013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Kalmár Lászl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09:22:14Z</dcterms:created>
  <dc:creator>Dr. Szilassi Lajos</dc:creator>
  <dc:description/>
  <dc:language>en-US</dc:language>
  <cp:lastModifiedBy>Szilassi Lajos</cp:lastModifiedBy>
  <dcterms:modified xsi:type="dcterms:W3CDTF">2005-07-25T19:25:44Z</dcterms:modified>
  <cp:revision>24</cp:revision>
  <dc:subject/>
  <dc:title>1. dia</dc:title>
</cp:coreProperties>
</file>