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jpeg" ContentType="image/jpeg"/>
  <Override PartName="/ppt/media/image44.png" ContentType="image/png"/>
  <Override PartName="/ppt/media/image39.gif" ContentType="image/gif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35.gif" ContentType="image/gif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4B8-F43C-4FD4-B2AA-CA542C70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45F-E9C4-4D0E-A08F-4ECD9EE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19F-0228-4F6A-BD3A-7E7B05F6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9D7-A655-4753-9A9C-02F0EA19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9DA-F7DD-46C1-97C6-6EBBA865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E59-B30F-41F2-A0DD-DCCFBAC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E73-C4DC-49ED-A3A4-46C774BF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870-A29A-47C8-B045-53137F2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12E-5C32-4DDA-96C5-02024FE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4BA-4759-40EA-9B11-8AB17F2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91D-B40B-494A-AEF4-25C2817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442-0381-49FA-9640-74C3CAE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36CE-8E13-466D-9636-0F60A66F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168720" cy="282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22050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spiralloéder (spirallohedron) elnevezés Russel Towle-től származik:</a:t>
            </a:r>
            <a:br>
              <a:rPr sz="1600"/>
            </a:b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Russel Towle:</a:t>
            </a:r>
            <a:r>
              <a:rPr b="1" i="1" lang="hu-HU" sz="1600" spc="-1" strike="noStrike">
                <a:solidFill>
                  <a:srgbClr val="993300"/>
                </a:solidFill>
                <a:latin typeface="Arial"/>
              </a:rPr>
              <a:t>Rhombic Spirallohedra </a:t>
            </a:r>
            <a:br>
              <a:rPr sz="1600"/>
            </a:br>
            <a:r>
              <a:rPr b="1" i="1" lang="hu-HU" sz="1600" spc="-1" strike="noStrike">
                <a:solidFill>
                  <a:srgbClr val="993300"/>
                </a:solidFill>
                <a:latin typeface="Arial"/>
              </a:rPr>
              <a:t>S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ymmetry: Culture and Sciernce Volume 11 (2000) No. 1.-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27280" y="907560"/>
            <a:ext cx="460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 spiralloé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4681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zilassi La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SZTE Juhász Gyula Tanárképző Főiskolai Kar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Matematikai Tanszéke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ZE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3300"/>
                </a:solidFill>
                <a:latin typeface="Arial"/>
              </a:rPr>
              <a:t>45. Rátz Lászó Vándorgyűlés  Salgótarján, 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2862000" cy="2881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32000" y="162864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Egy geometriai konstrukció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84D-69CC-4AC4-85A6-F3F529E943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FCE03-852A-40A5-8759-DE4F894BD3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2880" y="33336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3300"/>
                </a:solidFill>
                <a:latin typeface="Arial"/>
              </a:rPr>
              <a:t>Térkitöltés háromkarú spiralloéderek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90792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A legdurvább közelítő poliéder egy romboéder (alkalmas menetmagasság esetén kocka), így ennek az eltolás-csoportja adja a háromkarú spiralloéder eltolás-csoportj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839960" cy="193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2736720" cy="23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13360" y="1916280"/>
            <a:ext cx="4130640" cy="360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8D1-1FBF-489B-9C1C-53B11AB2C67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FF0CE-7A25-4566-A912-E3C728F15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0560" y="33336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3300"/>
                </a:solidFill>
                <a:latin typeface="Times New Roman"/>
              </a:rPr>
              <a:t>Térkitöltés négykarú spiralloéderek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8366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négykarú spiralloéder  legdurvább közelítő poliédere egy rombdodekaéder, (amely megfelelő menetmagasság esetén egy  félig szabályos test, un. Katalan poliéder), így ennek az eltolás-csoportja egyezik meg a négykarú spiralloéder eltolás csoportjával.</a:t>
            </a:r>
            <a:r>
              <a:rPr b="0" lang="hu-HU" sz="16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1791"/>
          <a:stretch/>
        </p:blipFill>
        <p:spPr>
          <a:xfrm>
            <a:off x="324000" y="2133720"/>
            <a:ext cx="2062080" cy="2469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1775"/>
          <a:stretch/>
        </p:blipFill>
        <p:spPr>
          <a:xfrm>
            <a:off x="2556000" y="2060640"/>
            <a:ext cx="2673360" cy="2913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2276640"/>
            <a:ext cx="3744720" cy="30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580536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Hézagmentesen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kitölthető a tér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téglalap keresztmetszetű spiralloéderek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kel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3CF-CC3E-4A61-826D-BDC9CEAF57B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825E8-544E-4967-8409-8632AB39F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04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3300"/>
                </a:solidFill>
                <a:latin typeface="Arial"/>
              </a:rPr>
              <a:t>Térkitöltés három- és hatkarú spiralloéderek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05264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hatkarú spiralloéder legdurvább közelítő poliédere ugyanazokból a rombuszokból áll, mint a háromkarú spiralloéder második közelítő poliédere. Ezekből egy-egy „réteget”  képezve kapjuk a kétféle spiralloéder eltolás-csoporjait.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1851120" cy="201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2911680" cy="2454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3906720" cy="302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C16-78E0-4847-85C0-8C43C5DCC5E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7C94B-729E-4734-AF53-2AABC9BB7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0200" y="784080"/>
            <a:ext cx="38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3440" y="33264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93300"/>
                </a:solidFill>
                <a:latin typeface="Arial"/>
              </a:rPr>
              <a:t>A térkitöltő spiralloéderek normálmetszet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5440" y="7642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háromkarú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2160" y="764280"/>
            <a:ext cx="11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négykarú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93040" y="7642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három-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és hatkarú.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025800" cy="302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917800" cy="2917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1755720" cy="215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708360" y="1125360"/>
            <a:ext cx="1865520" cy="2159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443640" y="1268280"/>
            <a:ext cx="190512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059280" y="3429000"/>
            <a:ext cx="2882880" cy="28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C9D-1B6A-425D-B387-9C160636A48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60B0-DB07-4336-B57C-C1A37D2D91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720" y="243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Általánosítási lehetőségek:</a:t>
            </a:r>
            <a:r>
              <a:rPr b="1" lang="en-US" sz="18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88960"/>
            <a:ext cx="55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Nem szabályos sokszög normálmetszetű spirallodér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502800"/>
            <a:ext cx="208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Nem egyenes körhengerre csavart  (több menetnyi) csavarvonallal megadott spiralloéderek: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6173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Van-e további térkitöltő spiralloé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216216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627280" y="3141720"/>
            <a:ext cx="3384720" cy="29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448000" cy="2111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203640" y="907920"/>
            <a:ext cx="25923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7CF-F999-477B-AEF0-25327DCC05F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CF542-ABC1-401C-A239-81F6AF5215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689440" cy="5100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2360" y="6093000"/>
            <a:ext cx="59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993300"/>
                </a:solidFill>
                <a:latin typeface="Arial"/>
              </a:rPr>
              <a:t>Az animáció Rinus Roelofs hollandképzőművész és számítógépes grafikus munká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F38-2452-4CD1-880D-802A8E0C8EC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7DECD-A26E-44DF-A303-DB95B87545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7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 konstrukci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35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Forgassunk el egy egymenetnyi spirálvonalat a teljes szög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 i/n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-ed részével a kezdő és végpontjára illeszkedő tengely körül, ahol 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i =1, 2, …, n-1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. Kiválasztva egy pontot az alapul vett spirálvonalon, e pont elforgatottjai egy szabályos </a:t>
            </a:r>
            <a:r>
              <a:rPr b="0" i="1" lang="hu-H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-oldalú sokszög csúcsait alkotják. Miközben ez a pont végigfut a spirálvonalon, a kapott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-oldalú sokszög élei egy felületet súrolnak. Ezt a </a:t>
            </a:r>
            <a:r>
              <a:rPr b="0" lang="hu-HU" sz="1600" spc="-1" strike="noStrike" u="sng">
                <a:solidFill>
                  <a:srgbClr val="993300"/>
                </a:solidFill>
                <a:uFillTx/>
                <a:latin typeface="Arial"/>
              </a:rPr>
              <a:t>felületet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, ill. az általa meghatározott </a:t>
            </a:r>
            <a:r>
              <a:rPr b="0" lang="hu-HU" sz="1600" spc="-1" strike="noStrike" u="sng">
                <a:solidFill>
                  <a:srgbClr val="993300"/>
                </a:solidFill>
                <a:uFillTx/>
                <a:latin typeface="Arial"/>
              </a:rPr>
              <a:t>mértani testet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nevezzük </a:t>
            </a:r>
            <a:r>
              <a:rPr b="1" i="1" lang="hu-HU" sz="1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-karú spiralloéder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nek, ahol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 = 3, 4, 5,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50760" y="5537160"/>
            <a:ext cx="700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51664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Be fogjuk látni, hogy  a három- a négykarú spiralloéderekkel, valamint a három- és hatkarú spirlloéderek együttesével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hézagmentesen kitölthető a tér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2529000" cy="268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09744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B58-BEB3-4214-A035-37A0BA929ED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DDB35-8498-4A6E-B0ED-AF33AC7DE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836640"/>
            <a:ext cx="38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ff"/>
                </a:solidFill>
                <a:latin typeface="Arial"/>
              </a:rPr>
              <a:t>Belátható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, hogy a felületet meghatározó szabályos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-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szög oldalegyenesei – a spiralloéder-kar alkotói - minden esetben metszenek egy-egy olyan egyenest, amely párhuzamos a spiralloéder tengelyé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028680" cy="306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2565360"/>
            <a:ext cx="410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Általánosabban: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egyen adott egy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kör, melyet elforgatunk egy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kerületi pontja körül. Mutassuk meg, hogy a körvonal bármely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tól különböző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pontját a pont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P'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lforgatottjával összekötő egyenes illeszkedik a 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és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k'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köröknek a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tól különböző metszéspontjá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313080" cy="323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86900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Következmény: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Bármely spiralloéder bármely karja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egy zárt, lapos, torz csavarfelület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egy-egy rés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EB3-174B-4A81-AFE9-D193401B03E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849A8-6802-4724-BE15-503ED8DB4E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5120" y="49680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 csavarfelület származtatá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83664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Legyen adott egy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tengely, amely körül egyenletes csavarmozgást  végez egy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egy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Az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egyenes (alkotó) által leírt felületet nevezzük csavarfelületnek, vagy spirálfelületn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Egy csavarfelület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993300"/>
                </a:solidFill>
                <a:uFillTx/>
                <a:latin typeface="Arial"/>
              </a:rPr>
              <a:t>zárt,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ha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és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metsző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993300"/>
                </a:solidFill>
                <a:uFillTx/>
                <a:latin typeface="Arial"/>
              </a:rPr>
              <a:t>lapos,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ha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és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merőleges egymásra, ebből adódóan 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                  </a:t>
            </a:r>
            <a:r>
              <a:rPr b="1" lang="en-US" sz="1600" spc="-1" strike="noStrike" u="sng">
                <a:solidFill>
                  <a:srgbClr val="993300"/>
                </a:solidFill>
                <a:uFillTx/>
                <a:latin typeface="Arial"/>
              </a:rPr>
              <a:t>torz,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azaz  nem teríthető ki a síkb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566100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éldául ilyen zárt lapos torz csavarfelületre illeszkednek egy csigalépcső é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71560" y="2421000"/>
            <a:ext cx="272412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705040" cy="33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D3D-9984-4909-A0E4-960FB440396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C14C-4E7A-401F-8A90-2C7C83FD6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3527280" cy="333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76500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Mivel minden azonos magasságú spiralloéder ugyanarra a csavarfelületre illeszkedik, 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az azonos magasságú spiralloéder karok hézagmentesen elcsúsztathatók egymá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568600"/>
            <a:ext cx="2771640" cy="240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2914560" cy="29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5F0-46D1-4E37-9C56-D0B9C387656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4984C-D01A-48D1-960C-9F00B5FF61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907920"/>
            <a:ext cx="43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Egy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 t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tengelyű fél fordulatnyi  (zárt, lapos, torz)  csavarfelületnek és egy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t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alkotójú hengernek a metszésvonala egy egész fordulatnyi csavarvonal: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a  spiralloéder vonal,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mely vagy éle a spiralloédernek, vagy illeszkedik valamely spiralloéder  kar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357720"/>
            <a:ext cx="388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A (végtelen) csavarfelületnek szimmetriatengelye bármely alkotója  (is). Ezért a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felület bármely pontjára pontosan két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(teljes fordulatú)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spiralloéder vonal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illeszkedik, amelyek egymás tükörképei a metszésponton átmenő alkotóra néz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2908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240000" cy="309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E70-7593-4B1D-8B4B-15FDE75DD1D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805A8-DD42-4D78-9FD7-EF7166B2E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04640"/>
            <a:ext cx="743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Ha a csavarfelületen felveszünk négy spiralloéder vonalat úgy, hogy közülük kettő-kettőnek ugyanaz az alkotó legyen a szimmetriatengelye, akkor az általuk meghatározott másik két metszéspont is tükrös erre az alkotó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Így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e négy pont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egy síkban van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, továbbá az i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látható,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hogy a négy pont egy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rombuszt alkot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2127240"/>
            <a:ext cx="3744720" cy="371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80000" y="4869000"/>
            <a:ext cx="51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assuk meg, hogy  két azonos sugarú kör egyik metszéspontjára illeszkedő egyenesnek a körökkel alkotott másik metszéspontjai ,valamint a két kör másik metszéspontja egyenlőszárú háromszöget határoz m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384720" cy="266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BC1-6270-46FC-AD68-EF3C02CF156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0E0E-9155-4683-A432-449E1480B6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3043440" cy="2941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857160"/>
            <a:ext cx="46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zok a spiralloéder vonalak, amelyek egyenlő szakaszokra osztják a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t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tengelyt,egy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rácsot határoznak meg 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csavarfelületen. A csavarvonalak metszéspontjaiként kapott rácspontok egy-egy síkbeli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rombusz csúcsai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349360"/>
            <a:ext cx="47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Ugyanígy rácsozható az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karú spiralloéder egy-egy karja is: az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-karú spiralloéder egy karjára olyan -  topológiai értelemben   vett - </a:t>
            </a:r>
            <a:r>
              <a:rPr b="0" lang="hu-HU" sz="1600" spc="-1" strike="noStrike" u="sng">
                <a:solidFill>
                  <a:srgbClr val="993300"/>
                </a:solidFill>
                <a:uFillTx/>
                <a:latin typeface="Arial"/>
              </a:rPr>
              <a:t>téglalap-rács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illeszkedik, amely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(n-1)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darab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k*k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finomságú „négyzetrács”-ból áll, ahol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k=1, 2, 3, ...</a:t>
            </a: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 lehet.</a:t>
            </a:r>
            <a:r>
              <a:rPr b="0" lang="hu-H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2808360" cy="271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114720" cy="30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1BE-E9A0-4065-BBAD-07A77925CCE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BBD81-4E93-4EFB-B5F6-9CF9397B7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376360" cy="204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9480" y="352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49680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3480" y="857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04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berácsozott spiralloéder-felületet a rácspontok által meghatározott rombuszokkal rombuszokkal helyettesítve bármely 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 spiralloéder </a:t>
            </a:r>
            <a:r>
              <a:rPr b="1" lang="hu-HU" sz="1600" spc="-1" strike="noStrike" u="sng">
                <a:solidFill>
                  <a:srgbClr val="993300"/>
                </a:solidFill>
                <a:uFillTx/>
                <a:latin typeface="Arial"/>
              </a:rPr>
              <a:t>tetszőleges pontossággal</a:t>
            </a:r>
            <a:r>
              <a:rPr b="1" lang="hu-HU" sz="1600" spc="-1" strike="noStrike">
                <a:solidFill>
                  <a:srgbClr val="993300"/>
                </a:solidFill>
                <a:latin typeface="Arial"/>
              </a:rPr>
              <a:t> közelíthető poliéderekkel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89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93300"/>
                </a:solidFill>
                <a:latin typeface="Arial"/>
              </a:rPr>
              <a:t>A legdurvább poliéderes közelítés adhat ötletet arra, hogy mely spiralloéderekkel tölthető ki hézagmentesen a té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230200" cy="191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2303280" cy="198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2521080" cy="216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203640" y="3213000"/>
            <a:ext cx="2519280" cy="216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724360" y="3357720"/>
            <a:ext cx="2448000" cy="210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F04-BB42-498B-A428-1E2AA930E22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6E6C-B3B0-493D-9694-9DA840596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58:06Z</dcterms:created>
  <dc:creator>Dr. Szilassi Lajos</dc:creator>
  <dc:description/>
  <dc:language>en-US</dc:language>
  <cp:lastModifiedBy>Dr. Szilassi Lajos</cp:lastModifiedBy>
  <dcterms:modified xsi:type="dcterms:W3CDTF">2005-07-26T07:45:24Z</dcterms:modified>
  <cp:revision>71</cp:revision>
  <dc:subject/>
  <dc:title>A spiralloéder Egy geometriai konstrukció elemzése </dc:title>
</cp:coreProperties>
</file>